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41.wmf" ContentType="image/x-wmf"/>
  <Override PartName="/ppt/media/image40.wmf" ContentType="image/x-wmf"/>
  <Override PartName="/ppt/media/camera.wav" ContentType="audio/x-wav"/>
  <Override PartName="/ppt/media/image30.wmf" ContentType="image/x-wmf"/>
  <Override PartName="/ppt/media/child%20yikes.wav" ContentType="audio/x-wav"/>
  <Override PartName="/ppt/media/projctor.wav" ContentType="audio/x-wav"/>
  <Override PartName="/ppt/media/image27.wmf" ContentType="image/x-wmf"/>
  <Override PartName="/ppt/media/image26.wmf" ContentType="image/x-wmf"/>
  <Override PartName="/ppt/media/image24.wmf" ContentType="image/x-wmf"/>
  <Override PartName="/ppt/media/planeflyby.wav" ContentType="audio/x-wav"/>
  <Override PartName="/ppt/media/image34.wmf" ContentType="image/x-wmf"/>
  <Override PartName="/ppt/media/image23.wmf" ContentType="image/x-wmf"/>
  <Override PartName="/ppt/media/image22.wmf" ContentType="image/x-wmf"/>
  <Override PartName="/ppt/media/image32.wmf" ContentType="image/x-wmf"/>
  <Override PartName="/ppt/media/trainflyby.wav" ContentType="audio/x-wav"/>
  <Override PartName="/ppt/media/image37.wmf" ContentType="image/x-wmf"/>
  <Override PartName="/ppt/media/image38.wmf" ContentType="image/x-wmf"/>
  <Override PartName="/ppt/media/image8.wmf" ContentType="image/x-wmf"/>
  <Override PartName="/ppt/media/image51.wmf" ContentType="image/x-wmf"/>
  <Override PartName="/ppt/media/image33.wmf" ContentType="image/x-wmf"/>
  <Override PartName="/ppt/media/image39.wmf" ContentType="image/x-wmf"/>
  <Override PartName="/ppt/media/image9.wmf" ContentType="image/x-wmf"/>
  <Override PartName="/ppt/media/EXPLODE.WAV" ContentType="audio/x-wav"/>
  <Override PartName="/ppt/media/image52.wmf" ContentType="image/x-wmf"/>
  <Override PartName="/ppt/media/jetflyby.wav" ContentType="audio/x-wav"/>
  <Override PartName="/ppt/media/image12.wmf" ContentType="image/x-wmf"/>
  <Override PartName="/ppt/media/LASER.WAV" ContentType="audio/x-wav"/>
  <Override PartName="/ppt/media/image2.wmf" ContentType="image/x-wmf"/>
  <Override PartName="/ppt/media/image14.wmf" ContentType="image/x-wmf"/>
  <Override PartName="/ppt/media/peopleooo.wav" ContentType="audio/x-wav"/>
  <Override PartName="/ppt/media/image50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5.wmf" ContentType="image/x-wmf"/>
  <Override PartName="/ppt/media/carbrake.wav" ContentType="audio/x-wav"/>
  <Override PartName="/ppt/media/jetflyby2.wav" ContentType="audio/x-wav"/>
  <Override PartName="/ppt/media/image3.wmf" ContentType="image/x-wmf"/>
  <Override PartName="/ppt/media/fastcar.wav" ContentType="audio/x-wav"/>
  <Override PartName="/ppt/media/image15.wmf" ContentType="image/x-wmf"/>
  <Override PartName="/ppt/media/kids%20yikes.wav" ContentType="audio/x-wav"/>
  <Override PartName="/ppt/media/image49.wmf" ContentType="image/x-wmf"/>
  <Override PartName="/ppt/media/CHIMES.WAV" ContentType="audio/x-wav"/>
  <Override PartName="/ppt/media/image28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traingoby.wav" ContentType="audio/x-wav"/>
  <Override PartName="/ppt/media/gunshot.wav" ContentType="audio/x-wav"/>
  <Override PartName="/ppt/media/image25.wmf" ContentType="image/x-wmf"/>
  <Override PartName="/ppt/media/children%20yeah.wav" ContentType="audio/x-wav"/>
  <Override PartName="/ppt/media/image21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7.wmf" ContentType="image/x-wmf"/>
  <Override PartName="/ppt/media/image19.wmf" ContentType="image/x-wmf"/>
  <Override PartName="/ppt/media/driveby.wav" ContentType="audio/x-wav"/>
  <Override PartName="/ppt/media/image20.wmf" ContentType="image/x-wmf"/>
  <Override PartName="/ppt/media/URCRAZE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34-BB42-4B2F-BC62-7DA74CA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75A-F322-4149-B849-8FA2EFC5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EF1-EC2C-479D-B8A1-026B309D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4E2-8A5A-40EB-B2DD-4CC4976E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D4A-8866-4499-AC89-705616B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E8C-524E-438F-97E6-0F6246A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3C8-C7F4-49BE-AE8C-019F5E00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03F-50AA-4922-95FD-6F6AC21D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8BD-22DC-4C60-A297-3031BAFF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CE0-2DA1-47AE-8E19-1F36D3D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1B4-D2CD-4D22-BCAB-21CDFECD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A3E-F685-4F23-A92A-7EE2E93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53F-3F42-4925-A7CB-A8A8C53C2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carbrake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children%20yeah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driveby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camera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planeflyby.wav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traingoby.wav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jetflyby.wav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driveby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camera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trainflyby.wav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children%20yeah.wav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child%20yikes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audio" Target="../media/carbrake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peopleooo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kids%20yik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URCRAZEE.wav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audio" Target="../media/WHOOSH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audio" Target="../media/CHIMES.WAV"/><Relationship Id="rId20" Type="http://schemas.openxmlformats.org/officeDocument/2006/relationships/audio" Target="../media/carbrake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driveby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WHOOSH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WHOOSH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camera.wav"/><Relationship Id="rId34" Type="http://schemas.openxmlformats.org/officeDocument/2006/relationships/audio" Target="../media/gunshot.wav"/><Relationship Id="rId35" Type="http://schemas.openxmlformats.org/officeDocument/2006/relationships/audio" Target="../media/gunshot.wav"/><Relationship Id="rId36" Type="http://schemas.openxmlformats.org/officeDocument/2006/relationships/audio" Target="../media/fastcar.wav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jetflyby2.wav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42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60480" y="3581280"/>
          <a:ext cx="246384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581280"/>
                    <a:ext cx="2463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84520" y="4114800"/>
                <a:ext cx="2814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2971800" y="4191120"/>
          <a:ext cx="3967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911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789280" y="4924440"/>
          <a:ext cx="49212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9280" y="4924440"/>
                    <a:ext cx="492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276720" y="4800600"/>
          <a:ext cx="9954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480060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2057400" y="5562720"/>
            <a:ext cx="24382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6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300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57800" y="42670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03200" y="2133720"/>
          <a:ext cx="281304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133720"/>
                    <a:ext cx="28130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2590920"/>
            <a:ext cx="1447920" cy="2895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982960" y="3505320"/>
          <a:ext cx="52848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3505320"/>
                    <a:ext cx="528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14760" y="3886200"/>
          <a:ext cx="8348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886200"/>
                    <a:ext cx="834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951280" y="4800600"/>
          <a:ext cx="52848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1280" y="4800600"/>
                    <a:ext cx="528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505320" y="5181480"/>
          <a:ext cx="83664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181480"/>
                    <a:ext cx="836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133720" y="2590920"/>
          <a:ext cx="10112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04920" y="2590920"/>
          <a:ext cx="101124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457200" y="3124080"/>
            <a:ext cx="31240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6840" y="3179880"/>
          <a:ext cx="1495440" cy="65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6840" y="3179880"/>
                    <a:ext cx="1495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523880" y="3200400"/>
          <a:ext cx="83664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388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344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7712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0481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38240" y="2133720"/>
          <a:ext cx="334332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2133720"/>
                    <a:ext cx="3343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6400800" y="51055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400800" y="2666880"/>
            <a:ext cx="457200" cy="28195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873520" y="3505320"/>
          <a:ext cx="74916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3520" y="3505320"/>
                    <a:ext cx="7491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614760" y="3886200"/>
          <a:ext cx="8348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886200"/>
                    <a:ext cx="834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840040" y="4800600"/>
          <a:ext cx="74916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0040" y="4800600"/>
                    <a:ext cx="7491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3505320" y="5181480"/>
          <a:ext cx="140976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181480"/>
                    <a:ext cx="14097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8001000" y="3124080"/>
            <a:ext cx="60948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-2      -4   -6  -8  -10 -12 -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75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75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raingo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380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780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924680" y="48006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356220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35622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548640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5029200" y="2666880"/>
            <a:ext cx="3200400" cy="23623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851200" y="3505320"/>
          <a:ext cx="79380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1200" y="3505320"/>
                    <a:ext cx="79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614760" y="3886200"/>
          <a:ext cx="8348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886200"/>
                    <a:ext cx="834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819520" y="4800600"/>
          <a:ext cx="79380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800600"/>
                    <a:ext cx="79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57600" y="5181480"/>
          <a:ext cx="83664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181480"/>
                    <a:ext cx="836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57800" y="2743200"/>
            <a:ext cx="2819520" cy="2743200"/>
            <a:chOff x="5257800" y="2743200"/>
            <a:chExt cx="2819520" cy="2743200"/>
          </a:xfrm>
        </p:grpSpPr>
        <p:sp>
          <p:nvSpPr>
            <p:cNvPr id="415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816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3412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4800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28600" y="2133720"/>
          <a:ext cx="360504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36050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095880" y="2666880"/>
            <a:ext cx="914400" cy="289584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819520" y="3505320"/>
          <a:ext cx="83664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05320"/>
                    <a:ext cx="83664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429000" y="3505320"/>
          <a:ext cx="1538280" cy="13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05320"/>
                    <a:ext cx="15382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841480" y="4800600"/>
          <a:ext cx="74772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1480" y="4800600"/>
                    <a:ext cx="7477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3581280" y="5181480"/>
          <a:ext cx="79236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5181480"/>
                    <a:ext cx="7923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828800" y="2590920"/>
          <a:ext cx="10112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457200" y="2590920"/>
          <a:ext cx="101124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457200" y="3124080"/>
            <a:ext cx="31240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0" y="3200400"/>
          <a:ext cx="2068560" cy="65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3200400"/>
                    <a:ext cx="2068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981080" y="3200400"/>
          <a:ext cx="10558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3200400"/>
                    <a:ext cx="105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rain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63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66840" y="3581280"/>
          <a:ext cx="36529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3581280"/>
                    <a:ext cx="365292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95280" y="4114800"/>
                <a:ext cx="3657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2" name=""/>
          <p:cNvGraphicFramePr/>
          <p:nvPr/>
        </p:nvGraphicFramePr>
        <p:xfrm>
          <a:off x="3124080" y="4191120"/>
          <a:ext cx="3970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191120"/>
                    <a:ext cx="3970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743200" y="4800600"/>
          <a:ext cx="113184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800600"/>
                    <a:ext cx="1131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733920" y="4724280"/>
          <a:ext cx="136188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724280"/>
                    <a:ext cx="1361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 txBox="1"/>
          <p:nvPr/>
        </p:nvSpPr>
        <p:spPr>
          <a:xfrm>
            <a:off x="5867280" y="5486400"/>
            <a:ext cx="2438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2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314960" y="5410080"/>
          <a:ext cx="7682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4960" y="5410080"/>
                    <a:ext cx="768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156120" y="5410080"/>
          <a:ext cx="76824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56120" y="5410080"/>
                    <a:ext cx="768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343400" y="54100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541008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52680" y="6095880"/>
          <a:ext cx="4921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6095880"/>
                    <a:ext cx="492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809880" y="6019920"/>
          <a:ext cx="93528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6019920"/>
                    <a:ext cx="935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94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52680" y="3581280"/>
          <a:ext cx="308124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3581280"/>
                    <a:ext cx="30812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23880" y="4114800"/>
                <a:ext cx="3090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124080" y="4191120"/>
          <a:ext cx="3970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191120"/>
                    <a:ext cx="3970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048120" y="4800600"/>
          <a:ext cx="78732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800600"/>
                    <a:ext cx="78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33920" y="4724280"/>
          <a:ext cx="9954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72428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 txBox="1"/>
          <p:nvPr/>
        </p:nvSpPr>
        <p:spPr>
          <a:xfrm>
            <a:off x="5867280" y="5486400"/>
            <a:ext cx="2438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2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95880" y="5410080"/>
          <a:ext cx="4064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5880" y="5410080"/>
                    <a:ext cx="40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35400" y="5410080"/>
          <a:ext cx="4078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35400" y="5410080"/>
                    <a:ext cx="407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43240" y="54100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41008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52680" y="6095880"/>
          <a:ext cx="4921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6095880"/>
                    <a:ext cx="492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9880" y="6019920"/>
          <a:ext cx="93528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6019920"/>
                    <a:ext cx="935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125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16200" y="3581280"/>
          <a:ext cx="255420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3581280"/>
                    <a:ext cx="25542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52480" y="4114800"/>
                <a:ext cx="2598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2057400" y="4191120"/>
          <a:ext cx="3967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1911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666880" y="4952880"/>
          <a:ext cx="88596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952880"/>
                    <a:ext cx="8859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29000" y="4800600"/>
          <a:ext cx="9954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80060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 txBox="1"/>
          <p:nvPr/>
        </p:nvSpPr>
        <p:spPr>
          <a:xfrm>
            <a:off x="5867280" y="5486400"/>
            <a:ext cx="2438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0,-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5638680"/>
          <a:ext cx="492120" cy="63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638680"/>
                    <a:ext cx="4921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429000" y="5562720"/>
          <a:ext cx="1279440" cy="58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2794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150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3581280"/>
          <a:ext cx="361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361152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43000" y="4114800"/>
                <a:ext cx="34765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2057400" y="4191120"/>
          <a:ext cx="3967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1911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863800" y="4952880"/>
          <a:ext cx="49212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63800" y="4952880"/>
                    <a:ext cx="4921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52680" y="4800600"/>
          <a:ext cx="136224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800600"/>
                    <a:ext cx="1362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 txBox="1"/>
          <p:nvPr/>
        </p:nvSpPr>
        <p:spPr>
          <a:xfrm>
            <a:off x="5562720" y="4800600"/>
            <a:ext cx="24382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0,-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171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81280"/>
          <a:ext cx="308268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30826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4191120"/>
                <a:ext cx="31240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0" name=""/>
          <p:cNvGraphicFramePr/>
          <p:nvPr/>
        </p:nvGraphicFramePr>
        <p:xfrm>
          <a:off x="1752480" y="4267080"/>
          <a:ext cx="3970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0" y="4876920"/>
          <a:ext cx="118116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876920"/>
                    <a:ext cx="11811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52680" y="4876920"/>
          <a:ext cx="995400" cy="61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876920"/>
                    <a:ext cx="995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 txBox="1"/>
          <p:nvPr/>
        </p:nvSpPr>
        <p:spPr>
          <a:xfrm>
            <a:off x="5562720" y="4800600"/>
            <a:ext cx="24382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0,-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627360" y="5562720"/>
          <a:ext cx="76860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7360" y="5562720"/>
                    <a:ext cx="768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666880" y="5562720"/>
          <a:ext cx="7700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5562720"/>
                    <a:ext cx="7700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656160" y="5562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37000" y="556272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819520" y="6224760"/>
          <a:ext cx="4921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6224760"/>
                    <a:ext cx="4921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276720" y="6072120"/>
          <a:ext cx="1279440" cy="58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6072120"/>
                    <a:ext cx="12794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URCRAZ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202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895480"/>
            <a:ext cx="883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standard form, Ax + By = C ,           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00400" y="3429000"/>
          <a:ext cx="6602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429000"/>
                    <a:ext cx="6602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814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00400" y="4800600"/>
          <a:ext cx="61740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800600"/>
                    <a:ext cx="617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220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4800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133720"/>
          <a:ext cx="28576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28576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666880"/>
            <a:ext cx="2590920" cy="2590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76520" y="2666880"/>
          <a:ext cx="74772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66880"/>
                    <a:ext cx="7477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33520" y="2666880"/>
          <a:ext cx="74772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666880"/>
                    <a:ext cx="7477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57200" y="3200400"/>
            <a:ext cx="31240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3200400"/>
          <a:ext cx="123192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200400"/>
                    <a:ext cx="12319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47920" y="3200400"/>
          <a:ext cx="8366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95480" y="3505320"/>
          <a:ext cx="484200" cy="13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3505320"/>
                    <a:ext cx="4842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352680" y="3886200"/>
          <a:ext cx="83664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38862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895480" y="4800600"/>
          <a:ext cx="484200" cy="13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95480" y="4800600"/>
                    <a:ext cx="4842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352680" y="5181480"/>
          <a:ext cx="836640" cy="520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52680" y="5181480"/>
                    <a:ext cx="836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264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67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57800" y="42670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4191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36600" y="2133720"/>
          <a:ext cx="294624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133720"/>
                    <a:ext cx="29462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5791320" y="4495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181480" y="4114440"/>
            <a:ext cx="2895840" cy="609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895480" y="3505320"/>
          <a:ext cx="70488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505320"/>
                    <a:ext cx="7048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505320" y="3886200"/>
          <a:ext cx="105552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886200"/>
                    <a:ext cx="1055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819520" y="4800600"/>
          <a:ext cx="79200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800600"/>
                    <a:ext cx="792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505320" y="5181480"/>
          <a:ext cx="11458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181480"/>
                    <a:ext cx="11458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6019920" y="5562720"/>
            <a:ext cx="2133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3   6  9 12 15 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2:05:22Z</dcterms:modified>
  <cp:revision>296</cp:revision>
  <dc:subject/>
  <dc:title>No Slide Title</dc:title>
</cp:coreProperties>
</file>